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62140-0D82-4C12-8E2E-D72387CD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130C6-88CC-4F50-B05E-253618F5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CBE98-3A8F-45F3-8D99-D39581ED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26DBF-F222-45CB-8DA9-AA013117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1C2C1-8441-4BD6-A4FA-42B3490D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34EE5-B187-4CE5-9837-35A803F5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FBC53-C81F-4FD6-8643-0C6AB03A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79369-C3E8-4A5D-A418-51552158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33AF-E455-44F3-BAC0-2AA68FB3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8C1DF-EBCE-4335-8ACF-B47B2306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95838-6CDA-47B7-B19B-74BDC325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B416A-87EA-4B86-A90A-A7F45EC1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404640"/>
            <a:ext cx="914400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352320" y="649872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E7D2-E93E-49DD-AA25-14092C57B52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-9360" y="0"/>
            <a:ext cx="188640" cy="6858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404640"/>
            <a:ext cx="184320" cy="72072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-14400" y="1128600"/>
            <a:ext cx="184320" cy="72072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-14400" y="1847880"/>
            <a:ext cx="18432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-14400" y="2552760"/>
            <a:ext cx="184320" cy="72072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" name="Oval 22"/>
          <p:cNvSpPr/>
          <p:nvPr/>
        </p:nvSpPr>
        <p:spPr>
          <a:xfrm>
            <a:off x="7740720" y="189000"/>
            <a:ext cx="1224000" cy="12650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>
            <a:off x="6095520" y="136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8"/>
          <p:cNvSpPr/>
          <p:nvPr/>
        </p:nvSpPr>
        <p:spPr>
          <a:xfrm>
            <a:off x="380880" y="5257800"/>
            <a:ext cx="8763120" cy="1600200"/>
          </a:xfrm>
          <a:prstGeom prst="rect">
            <a:avLst/>
          </a:prstGeom>
          <a:solidFill>
            <a:srgbClr val="6c89da"/>
          </a:solidFill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aphicFrame>
        <p:nvGraphicFramePr>
          <p:cNvPr id="49" name="Object 17"/>
          <p:cNvGraphicFramePr/>
          <p:nvPr/>
        </p:nvGraphicFramePr>
        <p:xfrm>
          <a:off x="395280" y="2349360"/>
          <a:ext cx="8748720" cy="295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349360"/>
                    <a:ext cx="874872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19"/>
          <p:cNvSpPr/>
          <p:nvPr/>
        </p:nvSpPr>
        <p:spPr>
          <a:xfrm>
            <a:off x="-36360" y="5138640"/>
            <a:ext cx="431640" cy="171936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-36360" y="4149720"/>
            <a:ext cx="431640" cy="1006560"/>
          </a:xfrm>
          <a:prstGeom prst="rect">
            <a:avLst/>
          </a:prstGeom>
          <a:solidFill>
            <a:srgbClr val="3e6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-36360" y="0"/>
            <a:ext cx="431640" cy="234936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-36360" y="2349360"/>
            <a:ext cx="431640" cy="86364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5" name="Group 16"/>
          <p:cNvGrpSpPr/>
          <p:nvPr/>
        </p:nvGrpSpPr>
        <p:grpSpPr>
          <a:xfrm>
            <a:off x="4267080" y="5867280"/>
            <a:ext cx="1079640" cy="635760"/>
            <a:chOff x="4267080" y="5867280"/>
            <a:chExt cx="1079640" cy="635760"/>
          </a:xfrm>
        </p:grpSpPr>
        <p:sp>
          <p:nvSpPr>
            <p:cNvPr id="56" name="Text Box 14"/>
            <p:cNvSpPr/>
            <p:nvPr/>
          </p:nvSpPr>
          <p:spPr>
            <a:xfrm>
              <a:off x="4267080" y="60433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7" name="AutoShape 15"/>
            <p:cNvSpPr/>
            <p:nvPr/>
          </p:nvSpPr>
          <p:spPr>
            <a:xfrm rot="5400000">
              <a:off x="4660920" y="557352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8" name="Rectangle 31"/>
          <p:cNvSpPr/>
          <p:nvPr/>
        </p:nvSpPr>
        <p:spPr>
          <a:xfrm>
            <a:off x="-36360" y="3200400"/>
            <a:ext cx="431640" cy="9619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4f86"/>
                </a:solidFill>
                <a:latin typeface="Verdana"/>
              </a:rPr>
              <a:t>Mẫu Slide PowerPoin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Oval 4"/>
          <p:cNvSpPr/>
          <p:nvPr/>
        </p:nvSpPr>
        <p:spPr>
          <a:xfrm>
            <a:off x="7451640" y="1803240"/>
            <a:ext cx="1224000" cy="1265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185184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6c89d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2" name="Text Box 32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f8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3" name="Oval 34"/>
          <p:cNvSpPr/>
          <p:nvPr/>
        </p:nvSpPr>
        <p:spPr>
          <a:xfrm rot="20876400">
            <a:off x="346860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4" name="Oval 35"/>
          <p:cNvSpPr/>
          <p:nvPr/>
        </p:nvSpPr>
        <p:spPr>
          <a:xfrm>
            <a:off x="340056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5" name="Oval 36"/>
          <p:cNvSpPr/>
          <p:nvPr/>
        </p:nvSpPr>
        <p:spPr>
          <a:xfrm>
            <a:off x="3421080" y="38386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6" name="Oval 37"/>
          <p:cNvSpPr/>
          <p:nvPr/>
        </p:nvSpPr>
        <p:spPr>
          <a:xfrm>
            <a:off x="343836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7" name="Oval 38"/>
          <p:cNvSpPr/>
          <p:nvPr/>
        </p:nvSpPr>
        <p:spPr>
          <a:xfrm>
            <a:off x="353052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8" name="Text Box 39"/>
          <p:cNvSpPr/>
          <p:nvPr/>
        </p:nvSpPr>
        <p:spPr>
          <a:xfrm>
            <a:off x="381816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9" name="Oval 40"/>
          <p:cNvSpPr/>
          <p:nvPr/>
        </p:nvSpPr>
        <p:spPr>
          <a:xfrm rot="20826600">
            <a:off x="1625760" y="44384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00" name="Group 41"/>
          <p:cNvGrpSpPr/>
          <p:nvPr/>
        </p:nvGrpSpPr>
        <p:grpSpPr>
          <a:xfrm>
            <a:off x="1549440" y="3448080"/>
            <a:ext cx="1371240" cy="1441080"/>
            <a:chOff x="1549440" y="3448080"/>
            <a:chExt cx="1371240" cy="1441080"/>
          </a:xfrm>
        </p:grpSpPr>
        <p:sp>
          <p:nvSpPr>
            <p:cNvPr id="301" name="Oval 42"/>
            <p:cNvSpPr/>
            <p:nvPr/>
          </p:nvSpPr>
          <p:spPr>
            <a:xfrm>
              <a:off x="154944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2" name="Oval 43"/>
            <p:cNvSpPr/>
            <p:nvPr/>
          </p:nvSpPr>
          <p:spPr>
            <a:xfrm>
              <a:off x="156708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3" name="Oval 44"/>
            <p:cNvSpPr/>
            <p:nvPr/>
          </p:nvSpPr>
          <p:spPr>
            <a:xfrm>
              <a:off x="158040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4" name="Oval 45"/>
            <p:cNvSpPr/>
            <p:nvPr/>
          </p:nvSpPr>
          <p:spPr>
            <a:xfrm>
              <a:off x="165204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5" name="Text Box 46"/>
            <p:cNvSpPr/>
            <p:nvPr/>
          </p:nvSpPr>
          <p:spPr>
            <a:xfrm>
              <a:off x="182988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06" name="Oval 47"/>
          <p:cNvSpPr/>
          <p:nvPr/>
        </p:nvSpPr>
        <p:spPr>
          <a:xfrm>
            <a:off x="144792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7" name="Oval 48"/>
          <p:cNvSpPr/>
          <p:nvPr/>
        </p:nvSpPr>
        <p:spPr>
          <a:xfrm>
            <a:off x="1523880" y="207648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8" name="Oval 49"/>
          <p:cNvSpPr/>
          <p:nvPr/>
        </p:nvSpPr>
        <p:spPr>
          <a:xfrm>
            <a:off x="153684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9" name="Oval 50"/>
          <p:cNvSpPr/>
          <p:nvPr/>
        </p:nvSpPr>
        <p:spPr>
          <a:xfrm>
            <a:off x="154764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0" name="Oval 51"/>
          <p:cNvSpPr/>
          <p:nvPr/>
        </p:nvSpPr>
        <p:spPr>
          <a:xfrm>
            <a:off x="160164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1" name="Text Box 52"/>
          <p:cNvSpPr/>
          <p:nvPr/>
        </p:nvSpPr>
        <p:spPr>
          <a:xfrm>
            <a:off x="172116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2" name="Oval 53"/>
          <p:cNvSpPr/>
          <p:nvPr/>
        </p:nvSpPr>
        <p:spPr>
          <a:xfrm>
            <a:off x="271476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3" name="Oval 54"/>
          <p:cNvSpPr/>
          <p:nvPr/>
        </p:nvSpPr>
        <p:spPr>
          <a:xfrm>
            <a:off x="283680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4" name="Oval 55"/>
          <p:cNvSpPr/>
          <p:nvPr/>
        </p:nvSpPr>
        <p:spPr>
          <a:xfrm>
            <a:off x="2846520" y="16225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5" name="Oval 56"/>
          <p:cNvSpPr/>
          <p:nvPr/>
        </p:nvSpPr>
        <p:spPr>
          <a:xfrm>
            <a:off x="2852640" y="162864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6" name="Oval 57"/>
          <p:cNvSpPr/>
          <p:nvPr/>
        </p:nvSpPr>
        <p:spPr>
          <a:xfrm>
            <a:off x="2889360" y="16477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7" name="Text Box 58"/>
          <p:cNvSpPr/>
          <p:nvPr/>
        </p:nvSpPr>
        <p:spPr>
          <a:xfrm>
            <a:off x="290736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3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28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1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2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4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5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6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37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8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9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0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1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42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3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4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45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7ab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6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7aba3">
                  <a:alpha val="32156"/>
                </a:srgbClr>
              </a:gs>
              <a:gs pos="100000">
                <a:srgbClr val="284f4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7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f5d58"/>
              </a:gs>
              <a:gs pos="50000">
                <a:srgbClr val="57aba3"/>
              </a:gs>
              <a:gs pos="100000">
                <a:srgbClr val="2f5d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8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76d68"/>
              </a:gs>
              <a:gs pos="100000">
                <a:srgbClr val="57ab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9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0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1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2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3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4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5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6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9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0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Freeform 3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ecffc"/>
              </a:gs>
              <a:gs pos="100000">
                <a:srgbClr val="57aba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64" name="Group 4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365" name="AutoShape 5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6" name="AutoShape 6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7" name="AutoShape 7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8" name="AutoShape 8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3e68d0"/>
                </a:gs>
                <a:gs pos="100000">
                  <a:srgbClr val="1d306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9" name="AutoShape 9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0" name="AutoShape 10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1" name="AutoShape 11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72" name="Text Box 12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68d0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7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8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9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0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1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2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383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4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5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6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7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8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89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0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91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2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3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4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5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6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7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8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9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0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1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2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3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4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405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6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7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8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9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10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1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2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3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4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5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16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7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8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9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423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24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6c89da"/>
                </a:gs>
                <a:gs pos="100000">
                  <a:srgbClr val="323f65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25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426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7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8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29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8fafe9"/>
                </a:gs>
                <a:gs pos="100000">
                  <a:srgbClr val="42516c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30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431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2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3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435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6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7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aba3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819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89da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5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6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447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448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49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450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1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2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3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54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55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456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7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8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9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60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61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462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3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4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5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66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467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8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9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0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1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2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3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4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6b3ab">
                  <a:alpha val="32156"/>
                </a:srgbClr>
              </a:gs>
              <a:gs pos="100000">
                <a:srgbClr val="57aba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fa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2516c"/>
              </a:gs>
              <a:gs pos="50000">
                <a:srgbClr val="8fafe9"/>
              </a:gs>
              <a:gs pos="100000">
                <a:srgbClr val="4251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0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1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7ab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3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4f4b"/>
              </a:gs>
              <a:gs pos="50000">
                <a:srgbClr val="57aba3"/>
              </a:gs>
              <a:gs pos="100000">
                <a:srgbClr val="284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4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5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6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9b6c7">
                  <a:alpha val="32156"/>
                </a:srgbClr>
              </a:gs>
              <a:gs pos="100000">
                <a:srgbClr val="85819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7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8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489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490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581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1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323d"/>
                </a:gs>
                <a:gs pos="50000">
                  <a:srgbClr val="85819d"/>
                </a:gs>
                <a:gs pos="100000">
                  <a:srgbClr val="3432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2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3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4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5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496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838080" y="2387520"/>
          <a:ext cx="7467840" cy="31244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a4f86"/>
                      </a:solidFill>
                    </a:lnR>
                    <a:lnT>
                      <a:noFill/>
                    </a:lnT>
                    <a:lnB w="5760">
                      <a:solidFill>
                        <a:srgbClr val="2a4f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02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03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4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3b8bb"/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6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94cac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7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b6098"/>
                </a:gs>
                <a:gs pos="100000">
                  <a:srgbClr val="6c89d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8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b8dbd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9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fafe9"/>
                </a:gs>
                <a:gs pos="100000">
                  <a:srgbClr val="42516c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0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50000">
                  <a:srgbClr val="f4f6f7"/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1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2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3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4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5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7aba3">
                    <a:alpha val="19215"/>
                  </a:srgbClr>
                </a:gs>
                <a:gs pos="100000">
                  <a:srgbClr val="8fc7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6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6a4b8"/>
                </a:gs>
                <a:gs pos="100000">
                  <a:srgbClr val="8581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7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85819d"/>
                </a:gs>
                <a:gs pos="100000">
                  <a:srgbClr val="4d4a5b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8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85819d"/>
                </a:gs>
                <a:gs pos="100000">
                  <a:srgbClr val="b1afc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9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20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190512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3d9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1676520" y="161928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aba3"/>
              </a:gs>
              <a:gs pos="50000">
                <a:srgbClr val="93c9c4"/>
              </a:gs>
              <a:gs pos="100000">
                <a:srgbClr val="57aba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365616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27" name="Group 6"/>
          <p:cNvGrpSpPr/>
          <p:nvPr/>
        </p:nvGrpSpPr>
        <p:grpSpPr>
          <a:xfrm>
            <a:off x="914400" y="4254480"/>
            <a:ext cx="1579680" cy="2069640"/>
            <a:chOff x="914400" y="4254480"/>
            <a:chExt cx="1579680" cy="2069640"/>
          </a:xfrm>
        </p:grpSpPr>
        <p:grpSp>
          <p:nvGrpSpPr>
            <p:cNvPr id="528" name="Group 7"/>
            <p:cNvGrpSpPr/>
            <p:nvPr/>
          </p:nvGrpSpPr>
          <p:grpSpPr>
            <a:xfrm>
              <a:off x="914400" y="4254480"/>
              <a:ext cx="1486080" cy="1514160"/>
              <a:chOff x="914400" y="4254480"/>
              <a:chExt cx="1486080" cy="1514160"/>
            </a:xfrm>
          </p:grpSpPr>
          <p:grpSp>
            <p:nvGrpSpPr>
              <p:cNvPr id="529" name="Group 8"/>
              <p:cNvGrpSpPr/>
              <p:nvPr/>
            </p:nvGrpSpPr>
            <p:grpSpPr>
              <a:xfrm>
                <a:off x="914400" y="4254480"/>
                <a:ext cx="1486080" cy="1514160"/>
                <a:chOff x="914400" y="4254480"/>
                <a:chExt cx="1486080" cy="1514160"/>
              </a:xfrm>
            </p:grpSpPr>
            <p:sp>
              <p:nvSpPr>
                <p:cNvPr id="530" name="Oval 9"/>
                <p:cNvSpPr/>
                <p:nvPr/>
              </p:nvSpPr>
              <p:spPr>
                <a:xfrm>
                  <a:off x="914400" y="42544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afe9"/>
                    </a:gs>
                    <a:gs pos="100000">
                      <a:srgbClr val="5b6f9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0"/>
                <p:cNvSpPr/>
                <p:nvPr/>
              </p:nvSpPr>
              <p:spPr>
                <a:xfrm>
                  <a:off x="1084320" y="42793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faf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Text Box 11"/>
              <p:cNvSpPr/>
              <p:nvPr/>
            </p:nvSpPr>
            <p:spPr>
              <a:xfrm>
                <a:off x="1072800" y="5025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33" name="Oval 12"/>
            <p:cNvSpPr/>
            <p:nvPr/>
          </p:nvSpPr>
          <p:spPr>
            <a:xfrm>
              <a:off x="914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34" name="Group 13"/>
          <p:cNvGrpSpPr/>
          <p:nvPr/>
        </p:nvGrpSpPr>
        <p:grpSpPr>
          <a:xfrm>
            <a:off x="2819520" y="4254480"/>
            <a:ext cx="1617480" cy="2069640"/>
            <a:chOff x="2819520" y="4254480"/>
            <a:chExt cx="1617480" cy="2069640"/>
          </a:xfrm>
        </p:grpSpPr>
        <p:grpSp>
          <p:nvGrpSpPr>
            <p:cNvPr id="535" name="Group 14"/>
            <p:cNvGrpSpPr/>
            <p:nvPr/>
          </p:nvGrpSpPr>
          <p:grpSpPr>
            <a:xfrm>
              <a:off x="2819520" y="4254480"/>
              <a:ext cx="1523880" cy="1520640"/>
              <a:chOff x="2819520" y="4254480"/>
              <a:chExt cx="1523880" cy="1520640"/>
            </a:xfrm>
          </p:grpSpPr>
          <p:sp>
            <p:nvSpPr>
              <p:cNvPr id="536" name="Oval 15"/>
              <p:cNvSpPr/>
              <p:nvPr/>
            </p:nvSpPr>
            <p:spPr>
              <a:xfrm>
                <a:off x="281952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d58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537" name="Freeform 16"/>
              <p:cNvSpPr/>
              <p:nvPr/>
            </p:nvSpPr>
            <p:spPr>
              <a:xfrm>
                <a:off x="2994480" y="42796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7ab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38" name="Text Box 17"/>
            <p:cNvSpPr/>
            <p:nvPr/>
          </p:nvSpPr>
          <p:spPr>
            <a:xfrm>
              <a:off x="289548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39" name="Oval 18"/>
            <p:cNvSpPr/>
            <p:nvPr/>
          </p:nvSpPr>
          <p:spPr>
            <a:xfrm>
              <a:off x="285768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40" name="Group 19"/>
          <p:cNvGrpSpPr/>
          <p:nvPr/>
        </p:nvGrpSpPr>
        <p:grpSpPr>
          <a:xfrm>
            <a:off x="4876920" y="4210200"/>
            <a:ext cx="1631880" cy="2113920"/>
            <a:chOff x="4876920" y="4210200"/>
            <a:chExt cx="1631880" cy="2113920"/>
          </a:xfrm>
        </p:grpSpPr>
        <p:grpSp>
          <p:nvGrpSpPr>
            <p:cNvPr id="541" name="Group 20"/>
            <p:cNvGrpSpPr/>
            <p:nvPr/>
          </p:nvGrpSpPr>
          <p:grpSpPr>
            <a:xfrm>
              <a:off x="4876920" y="4210200"/>
              <a:ext cx="1523880" cy="1520640"/>
              <a:chOff x="4876920" y="4210200"/>
              <a:chExt cx="1523880" cy="1520640"/>
            </a:xfrm>
          </p:grpSpPr>
          <p:sp>
            <p:nvSpPr>
              <p:cNvPr id="542" name="Oval 21"/>
              <p:cNvSpPr/>
              <p:nvPr/>
            </p:nvSpPr>
            <p:spPr>
              <a:xfrm>
                <a:off x="487692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6c89da"/>
                  </a:gs>
                  <a:gs pos="100000">
                    <a:srgbClr val="3746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543" name="Freeform 22"/>
              <p:cNvSpPr/>
              <p:nvPr/>
            </p:nvSpPr>
            <p:spPr>
              <a:xfrm>
                <a:off x="5051880" y="42354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c89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495288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45" name="Oval 24"/>
            <p:cNvSpPr/>
            <p:nvPr/>
          </p:nvSpPr>
          <p:spPr>
            <a:xfrm>
              <a:off x="492912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46" name="Group 25"/>
          <p:cNvGrpSpPr/>
          <p:nvPr/>
        </p:nvGrpSpPr>
        <p:grpSpPr>
          <a:xfrm>
            <a:off x="6781680" y="4210200"/>
            <a:ext cx="1579680" cy="2113920"/>
            <a:chOff x="6781680" y="4210200"/>
            <a:chExt cx="1579680" cy="2113920"/>
          </a:xfrm>
        </p:grpSpPr>
        <p:grpSp>
          <p:nvGrpSpPr>
            <p:cNvPr id="547" name="Group 26"/>
            <p:cNvGrpSpPr/>
            <p:nvPr/>
          </p:nvGrpSpPr>
          <p:grpSpPr>
            <a:xfrm>
              <a:off x="6781680" y="4210200"/>
              <a:ext cx="1524240" cy="1531440"/>
              <a:chOff x="6781680" y="4210200"/>
              <a:chExt cx="1524240" cy="1531440"/>
            </a:xfrm>
          </p:grpSpPr>
          <p:grpSp>
            <p:nvGrpSpPr>
              <p:cNvPr id="548" name="Group 27"/>
              <p:cNvGrpSpPr/>
              <p:nvPr/>
            </p:nvGrpSpPr>
            <p:grpSpPr>
              <a:xfrm>
                <a:off x="6781680" y="4210200"/>
                <a:ext cx="1524240" cy="1531440"/>
                <a:chOff x="6781680" y="4210200"/>
                <a:chExt cx="1524240" cy="1531440"/>
              </a:xfrm>
            </p:grpSpPr>
            <p:sp>
              <p:nvSpPr>
                <p:cNvPr id="549" name="Oval 28"/>
                <p:cNvSpPr/>
                <p:nvPr/>
              </p:nvSpPr>
              <p:spPr>
                <a:xfrm>
                  <a:off x="6781680" y="421020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819d"/>
                    </a:gs>
                    <a:gs pos="100000">
                      <a:srgbClr val="201f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29"/>
                <p:cNvSpPr/>
                <p:nvPr/>
              </p:nvSpPr>
              <p:spPr>
                <a:xfrm>
                  <a:off x="6955920" y="423540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819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30"/>
              <p:cNvSpPr/>
              <p:nvPr/>
            </p:nvSpPr>
            <p:spPr>
              <a:xfrm>
                <a:off x="692496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52" name="Oval 31"/>
            <p:cNvSpPr/>
            <p:nvPr/>
          </p:nvSpPr>
          <p:spPr>
            <a:xfrm>
              <a:off x="6781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AutoShape 41"/>
          <p:cNvSpPr/>
          <p:nvPr/>
        </p:nvSpPr>
        <p:spPr>
          <a:xfrm rot="5400000">
            <a:off x="-2249280" y="1626840"/>
            <a:ext cx="4824360" cy="477072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720"/>
              <a:gd name="textAreaBottom" fmla="*/ 3009960 h 477072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beef0"/>
              </a:gs>
              <a:gs pos="50000">
                <a:srgbClr val="d3d9dd"/>
              </a:gs>
              <a:gs pos="100000">
                <a:srgbClr val="ebeef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3" name="AutoShape 42"/>
          <p:cNvSpPr/>
          <p:nvPr/>
        </p:nvSpPr>
        <p:spPr>
          <a:xfrm flipH="1" rot="5400000">
            <a:off x="-1843920" y="2062440"/>
            <a:ext cx="4032360" cy="3929040"/>
          </a:xfrm>
          <a:custGeom>
            <a:avLst/>
            <a:gdLst>
              <a:gd name="textAreaLeft" fmla="*/ -360 w 4032360"/>
              <a:gd name="textAreaRight" fmla="*/ 403236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d3d9d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1995480" y="52513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5" name="AutoShape 44"/>
          <p:cNvSpPr/>
          <p:nvPr/>
        </p:nvSpPr>
        <p:spPr>
          <a:xfrm>
            <a:off x="2490840" y="442440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6" name="AutoShape 45"/>
          <p:cNvSpPr/>
          <p:nvPr/>
        </p:nvSpPr>
        <p:spPr>
          <a:xfrm>
            <a:off x="2611440" y="36115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7" name="AutoShape 46"/>
          <p:cNvSpPr/>
          <p:nvPr/>
        </p:nvSpPr>
        <p:spPr>
          <a:xfrm>
            <a:off x="2459160" y="274320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8" name="AutoShape 47"/>
          <p:cNvSpPr/>
          <p:nvPr/>
        </p:nvSpPr>
        <p:spPr>
          <a:xfrm>
            <a:off x="1938240" y="197316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09" name="Group 48"/>
          <p:cNvGrpSpPr/>
          <p:nvPr/>
        </p:nvGrpSpPr>
        <p:grpSpPr>
          <a:xfrm>
            <a:off x="1620720" y="2062080"/>
            <a:ext cx="381240" cy="381240"/>
            <a:chOff x="1620720" y="2062080"/>
            <a:chExt cx="381240" cy="381240"/>
          </a:xfrm>
        </p:grpSpPr>
        <p:sp>
          <p:nvSpPr>
            <p:cNvPr id="110" name="Oval 49"/>
            <p:cNvSpPr/>
            <p:nvPr/>
          </p:nvSpPr>
          <p:spPr>
            <a:xfrm>
              <a:off x="1620720" y="20620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1" name="Oval 50"/>
            <p:cNvSpPr/>
            <p:nvPr/>
          </p:nvSpPr>
          <p:spPr>
            <a:xfrm>
              <a:off x="1642320" y="208332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2" name="Oval 51"/>
            <p:cNvSpPr/>
            <p:nvPr/>
          </p:nvSpPr>
          <p:spPr>
            <a:xfrm>
              <a:off x="1661760" y="210312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3" name="Oval 52"/>
            <p:cNvSpPr/>
            <p:nvPr/>
          </p:nvSpPr>
          <p:spPr>
            <a:xfrm>
              <a:off x="1662120" y="210348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4" name="Oval 53"/>
            <p:cNvSpPr/>
            <p:nvPr/>
          </p:nvSpPr>
          <p:spPr>
            <a:xfrm>
              <a:off x="1681200" y="212256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5" name="Oval 54"/>
            <p:cNvSpPr/>
            <p:nvPr/>
          </p:nvSpPr>
          <p:spPr>
            <a:xfrm>
              <a:off x="1681920" y="212292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16" name="Group 55"/>
          <p:cNvGrpSpPr/>
          <p:nvPr/>
        </p:nvGrpSpPr>
        <p:grpSpPr>
          <a:xfrm>
            <a:off x="2154240" y="2849400"/>
            <a:ext cx="380880" cy="381240"/>
            <a:chOff x="2154240" y="2849400"/>
            <a:chExt cx="380880" cy="381240"/>
          </a:xfrm>
        </p:grpSpPr>
        <p:sp>
          <p:nvSpPr>
            <p:cNvPr id="117" name="Oval 56"/>
            <p:cNvSpPr/>
            <p:nvPr/>
          </p:nvSpPr>
          <p:spPr>
            <a:xfrm>
              <a:off x="2154240" y="28494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8" name="Oval 57"/>
            <p:cNvSpPr/>
            <p:nvPr/>
          </p:nvSpPr>
          <p:spPr>
            <a:xfrm>
              <a:off x="2175840" y="28706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9" name="Oval 58"/>
            <p:cNvSpPr/>
            <p:nvPr/>
          </p:nvSpPr>
          <p:spPr>
            <a:xfrm>
              <a:off x="2195280" y="28904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0" name="Oval 59"/>
            <p:cNvSpPr/>
            <p:nvPr/>
          </p:nvSpPr>
          <p:spPr>
            <a:xfrm>
              <a:off x="2195640" y="28908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1" name="Oval 60"/>
            <p:cNvSpPr/>
            <p:nvPr/>
          </p:nvSpPr>
          <p:spPr>
            <a:xfrm>
              <a:off x="2214360" y="29098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2" name="Oval 61"/>
            <p:cNvSpPr/>
            <p:nvPr/>
          </p:nvSpPr>
          <p:spPr>
            <a:xfrm>
              <a:off x="2215080" y="29102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23" name="Group 62"/>
          <p:cNvGrpSpPr/>
          <p:nvPr/>
        </p:nvGrpSpPr>
        <p:grpSpPr>
          <a:xfrm>
            <a:off x="2306520" y="3687840"/>
            <a:ext cx="381240" cy="380880"/>
            <a:chOff x="2306520" y="3687840"/>
            <a:chExt cx="381240" cy="380880"/>
          </a:xfrm>
        </p:grpSpPr>
        <p:sp>
          <p:nvSpPr>
            <p:cNvPr id="124" name="Oval 63"/>
            <p:cNvSpPr/>
            <p:nvPr/>
          </p:nvSpPr>
          <p:spPr>
            <a:xfrm>
              <a:off x="2306520" y="36878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5" name="Oval 64"/>
            <p:cNvSpPr/>
            <p:nvPr/>
          </p:nvSpPr>
          <p:spPr>
            <a:xfrm>
              <a:off x="2328120" y="37090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6" name="Oval 65"/>
            <p:cNvSpPr/>
            <p:nvPr/>
          </p:nvSpPr>
          <p:spPr>
            <a:xfrm>
              <a:off x="2347560" y="37288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7" name="Oval 66"/>
            <p:cNvSpPr/>
            <p:nvPr/>
          </p:nvSpPr>
          <p:spPr>
            <a:xfrm>
              <a:off x="2347920" y="37292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8" name="Oval 67"/>
            <p:cNvSpPr/>
            <p:nvPr/>
          </p:nvSpPr>
          <p:spPr>
            <a:xfrm>
              <a:off x="2367000" y="37479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9" name="Oval 68"/>
            <p:cNvSpPr/>
            <p:nvPr/>
          </p:nvSpPr>
          <p:spPr>
            <a:xfrm>
              <a:off x="2367720" y="37486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30" name="Group 69"/>
          <p:cNvGrpSpPr/>
          <p:nvPr/>
        </p:nvGrpSpPr>
        <p:grpSpPr>
          <a:xfrm>
            <a:off x="2154240" y="4525920"/>
            <a:ext cx="380880" cy="380880"/>
            <a:chOff x="2154240" y="4525920"/>
            <a:chExt cx="380880" cy="380880"/>
          </a:xfrm>
        </p:grpSpPr>
        <p:sp>
          <p:nvSpPr>
            <p:cNvPr id="131" name="Oval 70"/>
            <p:cNvSpPr/>
            <p:nvPr/>
          </p:nvSpPr>
          <p:spPr>
            <a:xfrm>
              <a:off x="2154240" y="45259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2" name="Oval 71"/>
            <p:cNvSpPr/>
            <p:nvPr/>
          </p:nvSpPr>
          <p:spPr>
            <a:xfrm>
              <a:off x="2175840" y="45471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3" name="Oval 72"/>
            <p:cNvSpPr/>
            <p:nvPr/>
          </p:nvSpPr>
          <p:spPr>
            <a:xfrm>
              <a:off x="2195280" y="456696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4" name="Oval 73"/>
            <p:cNvSpPr/>
            <p:nvPr/>
          </p:nvSpPr>
          <p:spPr>
            <a:xfrm>
              <a:off x="2195640" y="4567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5" name="Oval 74"/>
            <p:cNvSpPr/>
            <p:nvPr/>
          </p:nvSpPr>
          <p:spPr>
            <a:xfrm>
              <a:off x="2214360" y="45860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6" name="Oval 75"/>
            <p:cNvSpPr/>
            <p:nvPr/>
          </p:nvSpPr>
          <p:spPr>
            <a:xfrm>
              <a:off x="2215080" y="4586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37" name="Group 76"/>
          <p:cNvGrpSpPr/>
          <p:nvPr/>
        </p:nvGrpSpPr>
        <p:grpSpPr>
          <a:xfrm>
            <a:off x="1697040" y="5300640"/>
            <a:ext cx="355680" cy="380880"/>
            <a:chOff x="1697040" y="5300640"/>
            <a:chExt cx="355680" cy="380880"/>
          </a:xfrm>
        </p:grpSpPr>
        <p:sp>
          <p:nvSpPr>
            <p:cNvPr id="138" name="Oval 77"/>
            <p:cNvSpPr/>
            <p:nvPr/>
          </p:nvSpPr>
          <p:spPr>
            <a:xfrm>
              <a:off x="1697040" y="53006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9" name="Oval 78"/>
            <p:cNvSpPr/>
            <p:nvPr/>
          </p:nvSpPr>
          <p:spPr>
            <a:xfrm>
              <a:off x="1717200" y="53218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0" name="Oval 79"/>
            <p:cNvSpPr/>
            <p:nvPr/>
          </p:nvSpPr>
          <p:spPr>
            <a:xfrm>
              <a:off x="1734840" y="534168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1" name="Oval 80"/>
            <p:cNvSpPr/>
            <p:nvPr/>
          </p:nvSpPr>
          <p:spPr>
            <a:xfrm>
              <a:off x="173556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2" name="Oval 81"/>
            <p:cNvSpPr/>
            <p:nvPr/>
          </p:nvSpPr>
          <p:spPr>
            <a:xfrm>
              <a:off x="1754280" y="536076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3" name="Oval 82"/>
            <p:cNvSpPr/>
            <p:nvPr/>
          </p:nvSpPr>
          <p:spPr>
            <a:xfrm>
              <a:off x="1753920" y="5361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4"/>
          <p:cNvSpPr/>
          <p:nvPr/>
        </p:nvSpPr>
        <p:spPr>
          <a:xfrm>
            <a:off x="3780000" y="1844640"/>
            <a:ext cx="41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4f86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54" name="WordArt 5"/>
          <p:cNvSpPr txBox="1"/>
          <p:nvPr/>
        </p:nvSpPr>
        <p:spPr>
          <a:xfrm>
            <a:off x="2050920" y="3141720"/>
            <a:ext cx="568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7aba3"/>
                    </a:gs>
                    <a:gs pos="100000">
                      <a:srgbClr val="6c89da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2a4f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7aba3"/>
                  </a:gs>
                  <a:gs pos="100000">
                    <a:srgbClr val="6c89da"/>
                  </a:gs>
                </a:gsLst>
                <a:lin ang="0"/>
              </a:gradFill>
              <a:effectLst>
                <a:outerShdw dist="53966" dir="2700000" blurRad="0" rotWithShape="0">
                  <a:srgbClr val="2a4f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8840" y="1662120"/>
            <a:ext cx="782460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f86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fafe9"/>
              </a:gs>
              <a:gs pos="100000">
                <a:srgbClr val="b8cc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cae4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5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5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a534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5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5dad6"/>
                  </a:gs>
                  <a:gs pos="100000">
                    <a:srgbClr val="57aba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15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23f65"/>
                </a:gs>
                <a:gs pos="100000">
                  <a:srgbClr val="6c89d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6c89da">
                    <a:alpha val="0"/>
                  </a:srgbClr>
                </a:gs>
                <a:gs pos="100000">
                  <a:srgbClr val="ccd6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66dad"/>
                </a:gs>
                <a:gs pos="100000">
                  <a:srgbClr val="6c89d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89d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6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573408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7a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7ab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7aba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f5d58"/>
              </a:gs>
              <a:gs pos="50000">
                <a:srgbClr val="57aba3"/>
              </a:gs>
              <a:gs pos="100000">
                <a:srgbClr val="2f5d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6d68"/>
              </a:gs>
              <a:gs pos="100000">
                <a:srgbClr val="57ab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5819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5819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9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84655"/>
              </a:gs>
              <a:gs pos="50000">
                <a:srgbClr val="85819d"/>
              </a:gs>
              <a:gs pos="100000">
                <a:srgbClr val="48465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0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45264"/>
              </a:gs>
              <a:gs pos="100000">
                <a:srgbClr val="85819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1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82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183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4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5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6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87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c89d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8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c89da">
                  <a:alpha val="32156"/>
                </a:srgbClr>
              </a:gs>
              <a:gs pos="100000">
                <a:srgbClr val="323f6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9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a4a76"/>
              </a:gs>
              <a:gs pos="50000">
                <a:srgbClr val="6c89da"/>
              </a:gs>
              <a:gs pos="100000">
                <a:srgbClr val="3a4a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5578a"/>
              </a:gs>
              <a:gs pos="100000">
                <a:srgbClr val="6c89d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1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92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193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4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5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6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97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198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0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1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202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3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4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08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9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0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4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6264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5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6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7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8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9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26466">
                    <a:alpha val="12156"/>
                  </a:srgbClr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0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1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e3e7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2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3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5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3e7e9">
                    <a:alpha val="12156"/>
                  </a:srgbClr>
                </a:gs>
                <a:gs pos="100000">
                  <a:srgbClr val="d3d9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29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230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1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2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3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4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5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7aba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6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7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2f5d58"/>
                  </a:gs>
                  <a:gs pos="50000">
                    <a:srgbClr val="57aba3"/>
                  </a:gs>
                  <a:gs pos="100000">
                    <a:srgbClr val="2f5d5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8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239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1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2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4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6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4f8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7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8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9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0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1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2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268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69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0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1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2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7a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3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4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626466"/>
                </a:gs>
                <a:gs pos="50000">
                  <a:srgbClr val="d3d9dd"/>
                </a:gs>
                <a:gs pos="100000">
                  <a:srgbClr val="626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5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d3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6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7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87fa9"/>
                </a:gs>
                <a:gs pos="50000">
                  <a:srgbClr val="8fafe9"/>
                </a:gs>
                <a:gs pos="100000">
                  <a:srgbClr val="687f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8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f7c76"/>
                </a:gs>
                <a:gs pos="50000">
                  <a:srgbClr val="57aba3"/>
                </a:gs>
                <a:gs pos="100000">
                  <a:srgbClr val="3f7c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9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58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0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05e72"/>
                </a:gs>
                <a:gs pos="50000">
                  <a:srgbClr val="85819d"/>
                </a:gs>
                <a:gs pos="100000">
                  <a:srgbClr val="605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1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999da0"/>
                </a:gs>
                <a:gs pos="50000">
                  <a:srgbClr val="d3d9dd"/>
                </a:gs>
                <a:gs pos="100000">
                  <a:srgbClr val="999d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c89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fafe9"/>
              </a:gs>
              <a:gs pos="100000">
                <a:srgbClr val="b1c7f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7aba3"/>
              </a:gs>
              <a:gs pos="100000">
                <a:srgbClr val="8ac4b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8:43Z</dcterms:created>
  <dc:creator>Admin</dc:creator>
  <dc:description/>
  <dc:language>en-US</dc:language>
  <cp:lastModifiedBy>Nga</cp:lastModifiedBy>
  <dcterms:modified xsi:type="dcterms:W3CDTF">2017-09-15T08:57:16Z</dcterms:modified>
  <cp:revision>3</cp:revision>
  <dc:subject/>
  <dc:title>PowerPoint Template</dc:title>
</cp:coreProperties>
</file>